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D51-2EDA-453D-AF83-AC3122AC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4837-AA8C-4DFD-A11F-A27CB6525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0816-7D18-418F-A4DE-2EC1CAC47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05F-584B-4279-B06D-932DAA32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1893-EBF5-4F42-BE7F-F2D84C7D7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3A69-5B1C-4CB8-B7EF-1D4EEF764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789-5D14-4AF8-9142-A62B010E6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8023-1F95-4214-B772-9660F7191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C041-324F-4CF5-886C-9D6E5A5B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E62-61D8-465E-AE37-A673D0A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7922-9741-494C-94BB-B3DD1BAA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C0EF-9669-4DA7-A34E-20D171C9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D388-691F-4208-8B1D-9B6942B8D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 and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… How to create a research paper when you have a brain freez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anot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Direction + 3 reasons/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urrent NFL r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lect the changing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the use of instant replay, minor vs. major infractions, and  injury and career statisti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n organization t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include your major and minor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should include quotes (at least the first three words and a refere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must include your thesis, but it will not include your introduction and conclu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You 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, read, highlight, and read some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evidence into 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e your primary source quotes into head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if background of literature or concepts are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point #1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I.  Main point #2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V.  Main point #3 (topic sente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 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prim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(second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nation/ Analysis (your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ing statements and thesis tie-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.  Concluding restatement of 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all support should be introduced with your own words or topic sen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you may have more levels to your outline depending on your top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 that I will not be looking for complete sentences but will look for documente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Biggest Obsta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a valid and argumentative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ing evidence to support all aspects of your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focus and avoiding summary not relevant to 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ziness and procrast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e that these are your topic op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n Birthday 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like “Archetypes in Beowulf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Infractions in the N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s like “Codes and Values in Sir Gawai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 1:  Brainstorm- List or 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in Birthday Cak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use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ce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sweete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of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lth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362320" y="1789200"/>
            <a:ext cx="6527520" cy="50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and Infractions in the NF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instant re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jor infractions vs. minor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 and history of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tions regarding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ous inf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70866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at least three or four directions and points of inter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 down your cho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:  A strong thes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a st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ifies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resses on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pecif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sis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ject + Direction + 3 reasons/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ar used in b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ead to health probl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the addictive nature, wide-spread use, and conven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3:17:18Z</dcterms:created>
  <dc:creator>Brandi Caldwell</dc:creator>
  <dc:description/>
  <dc:language>en-US</dc:language>
  <cp:lastModifiedBy>Brandi Caldwell</cp:lastModifiedBy>
  <dcterms:modified xsi:type="dcterms:W3CDTF">2007-01-22T06:09:18Z</dcterms:modified>
  <cp:revision>1</cp:revision>
  <dc:subject/>
  <dc:title>Thesis and Outline</dc:title>
</cp:coreProperties>
</file>